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B1D-39FF-4A97-B36A-DC2B0447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586-000B-487D-A1C8-7FA233BA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0AC-C1E2-4065-8A36-A846C566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C0D-0245-418C-B153-5BDD846F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FEF-12F4-48AD-919F-2AC3914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0A0-0A55-4AD0-8B29-2E0B451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209-52A7-4CB7-B510-AD0C7BA9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C18-1A88-4908-A0F5-3D2476A6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53D-4911-4598-9C74-ECFD7C9F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F0F-D0B9-4874-8924-7795ED8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344-4EEF-41E6-A840-5D8F4577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D3C-A5F1-4896-8F8E-BC0A9FC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E4C9-7F78-4BA9-BDC9-F35D1CB9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 Analyzing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n angry outburst, a person often feels sorry for his or her words o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red may be directed at whole classes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dom repentance for acts of hatred because a person really aims to negate the object of his or her intens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 the same as strong anger directed at an individual whom there was a previous conflict or rival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tred is not directed at any one person in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Belfast mob didn’t know anything about the school girls except their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Lepine ordered all of the men out of the room before he turned his gun on th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ames Byrd was dragged to death because of his skin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heppard met his killers at a bar bc they were looking for a homo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umbine shooters were shooting at jocks and people wearing sports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intense and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9/11 the hijackers were intent on killing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erpetrator has power of authority or a physical advantage over the intended victims or vict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lfast- crowd of youths and adult men used rocks and bottles against women and little gir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Lepine used surprise in Montreal by bursting into a school heavily a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men forcibly tied a black hitchhiker to a truck bum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 men intent on ‘gay bashing” picked up one victim smaller in stature than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umbine used an arsenal of pipebombs and guns to terrorize several hundr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based on prejudic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jackers relied on knives and bold surprise to fly commercial airliners  into selected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erpetrators in all these cases acted from positions of power to last out at the objects of their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hatred is directed at scapegoats for other fr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ustrations and the difficulties in life may be found at the center of intense hatred toward out-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out-groups selected as targets for this displaced frustration and hostility are cal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apeg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ioting In Belfast Northern Ireland [www.keepvid.com].mp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. The hatred is directed at scapegoats for other fr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example:  in the late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entury hundreds of blacks were hanged each year  in the southern US often as a part of the cross burning rituals organized by the K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.  The hatred is directed at scapegoats for other fr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ducted by poor white farmers, one rung above the victim on the social ladder, for no reason other than to “keep the blacks in their pl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erpetrator of the 1989 Montreal Massacre left a suicide note claiming that he killed the female engineering students because they were feminists/ in thei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ocide is an expression of national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reatest excesses of hatred directed against minority scapegoats are those that have been carried out by order as national 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tler wrote a book called “My Strugg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4. Genocide is an expression of national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e blamed the Jews for failures of his own life and for the problems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Holocaust is the worst case of racial-cultural genocide the world has known in terms of the # of live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ur Characteristics of Hate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4. Genocide is an expression of national ha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1994 Rwanda, savagely murdered 800 000  minority people and any sympathi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WWII the international community agreed that such events as the Holocaust must never happen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1948 the United Nations declared it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niversal Declaration of Huma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was the first international statement outlining the rights and freedoms of people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states that every person has the right to life, freedom and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one must be treated in a cruel, degrading or inhumane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ational Criminal Court was set up to investigate and prosecute individuals guilty of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ar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imes against humanity and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se are the most extreme crimes of hatred and are defined as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ar Crimes-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urder, torture, and hostage taking of civilian nationals, and/or wide scale destruction of their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ate Crimes and Internation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rimes Against Humanity-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murder, torture, enslavement and deportation of innocent civilian nat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ocide-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eliberate mass murder of any national, ethnic, racial or religi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female engineering students gunned down  at Ecole Polytechnique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BC News Footage - December 6th 1989 Ecole Polytechnique [www.keepvid.com].mp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Texans dragged a black man to his death behind their pickup truck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he Untold Life Story of James Byrd Jr. by Ricky Jason [www.keepvid.com].mp4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Texans dragged a black man to his death behind their pickup truck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lazak Mayhem Tour 38 - Jasper, Texas Dragging Death of James Byrd, Jr. [www.keepvid.com].mp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he story-of matthew sheppard [www.keepvid.com]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y- bashing”  incident, which left a young man beaten and tied to a country fence post to die in a Wyoming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tthew Shepard The Story [www.keepvid.com].mp4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 11/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carry such intense h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h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s and even philosophers have struggled to explain the cause of hat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Aristotle observed the differences between hatred and 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aid that anger is usually felt towards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3:18:47Z</dcterms:created>
  <dc:creator>RCDSB</dc:creator>
  <dc:description/>
  <dc:language>en-US</dc:language>
  <cp:lastModifiedBy>Jason</cp:lastModifiedBy>
  <dcterms:modified xsi:type="dcterms:W3CDTF">2011-06-07T18:26:06Z</dcterms:modified>
  <cp:revision>11</cp:revision>
  <dc:subject/>
  <dc:title>9.2 Analyzing Hate Crimes</dc:title>
</cp:coreProperties>
</file>